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44A-0BE8-45B9-B285-F79ED545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0AF-DB18-41E9-B9D4-6B1C24CC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EFD-7DB1-4C1B-B83E-201FDB63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D17-F1EC-4605-95CD-3C0A476E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3C0A-C280-485E-8ED6-C4883634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8284-D573-456C-8903-DC5FFC10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8143-E9E0-4996-B387-5854C4C2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ACB4-1853-4E37-B477-EB89A741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F622-E53C-4CDF-B83F-8E495A43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089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92E1-03E5-431D-8127-1E0C4AB3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39F6-6B7F-4A4D-B5BA-73AE25FE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2A2-1F4C-4236-9B39-5EB94EB4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F046-AD6B-4C87-BE6B-F3F553E1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AAE3-34C7-4309-89E3-C4B4D95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683A-7246-4C0D-B9FC-CE8DB54E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1776-6BCF-4699-BF82-121541B0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368F-7248-41B0-85C7-D2638714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240-2AD2-487A-8FF6-7E53D0EA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05E-8866-44D5-A731-DD916E13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110-0C0B-4EB4-899A-98813A66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089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72C-7247-488C-B3C0-31371378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E84-BF33-458E-8FD9-5E13AC05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889-0BA0-423D-8FFA-04DA873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893-D785-4521-B1C5-777FCFB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4A8890-7ACE-4833-9C93-3D65D450A3E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B29BF-1914-422C-8EB8-9CFF34A4748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verningdynamo.com/political-galleries/words-of-the-inaugural-address/2984755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ocs.google.com/present/view?id=dhn2vcv5_157dpbsg9c5" TargetMode="External"/><Relationship Id="rId3" Type="http://schemas.openxmlformats.org/officeDocument/2006/relationships/hyperlink" Target="http://docs.google.com/present/view?id=dhn2vcv5_157dpbsg9c5" TargetMode="External"/><Relationship Id="rId4" Type="http://schemas.openxmlformats.org/officeDocument/2006/relationships/hyperlink" Target="http://docs.google.com/present/view?id=dhn2vcv5_157dpbsg9c5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ordleit.wikispaces.com/" TargetMode="External"/><Relationship Id="rId3" Type="http://schemas.openxmlformats.org/officeDocument/2006/relationships/hyperlink" Target="http://wordleit.wikispaces.com/" TargetMode="External"/><Relationship Id="rId4" Type="http://schemas.openxmlformats.org/officeDocument/2006/relationships/hyperlink" Target="http://wordleit.wikispaces.com/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chef.com/ic/word_mosaic/" TargetMode="External"/><Relationship Id="rId3" Type="http://schemas.openxmlformats.org/officeDocument/2006/relationships/hyperlink" Target="http://worditout.com/" TargetMode="External"/><Relationship Id="rId4" Type="http://schemas.openxmlformats.org/officeDocument/2006/relationships/hyperlink" Target="http://tagul.com/" TargetMode="External"/><Relationship Id="rId5" Type="http://schemas.openxmlformats.org/officeDocument/2006/relationships/hyperlink" Target="http://www.wordsift.com/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agxedo.com/" TargetMode="External"/><Relationship Id="rId3" Type="http://schemas.openxmlformats.org/officeDocument/2006/relationships/hyperlink" Target="http://www.tagxedo.com/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ideshare.net/JenniferW/wordle-ideas" TargetMode="External"/><Relationship Id="rId3" Type="http://schemas.openxmlformats.org/officeDocument/2006/relationships/hyperlink" Target="http://www.slideshare.net/JenniferW/wordle-ideas" TargetMode="External"/><Relationship Id="rId4" Type="http://schemas.openxmlformats.org/officeDocument/2006/relationships/hyperlink" Target="http://www.slideshare.net/JenniferW/wordle-ideas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Wordle It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(echnology) fo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er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153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ed on C-SPAN minutes after President Obama completed his State of the Union address on January 27, 2009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672400" cy="5261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39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62485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ident’s address to students                September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3808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ords of the Inaugural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7772400" cy="4232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43 Interesting Ways to Use Wordle in the Classroom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0" y="2971800"/>
            <a:ext cx="89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docs.google.com/present/view?id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=dhn2vcv5_157dpbsg9c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w To Create A Word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95480" y="1523880"/>
          <a:ext cx="3419640" cy="442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523880"/>
                    <a:ext cx="341964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ordle It! Resour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ordl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It!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ordleit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 can view the wiki, but only wiki members can add to or edi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ore Online Tools for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reating Word Clou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ord Mosaic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imagechef.com/ic/word_mosaic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ord It Out_x000b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orditout.com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Tagul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tagul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ordsi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ordsif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1828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1828800"/>
            <a:ext cx="38124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828800"/>
            <a:ext cx="38124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1828800"/>
            <a:ext cx="38124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50292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971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971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971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114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114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 Favorite Tool for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eating Word Clou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agxedo</a:t>
            </a:r>
            <a:r>
              <a:rPr b="1" lang="en-US" sz="3200" spc="-1" strike="noStrike">
                <a:solidFill>
                  <a:srgbClr val="ffd320"/>
                </a:solidFill>
                <a:latin typeface="Arial"/>
              </a:rPr>
              <a:t>   </a:t>
            </a:r>
            <a:br>
              <a:rPr sz="3200"/>
            </a:b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tagxedo.com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gxedo has some amazing fea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 an image file and use it for the shape of your word clo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your word cloud as an image or an embeddable file.  </a:t>
            </a:r>
            <a:r>
              <a:rPr b="1" lang="en-US" sz="3200" spc="-1" strike="noStrike">
                <a:solidFill>
                  <a:srgbClr val="ffd32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31273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cloud of Hamlet's soliloqu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76760" y="1676160"/>
            <a:ext cx="4167360" cy="4422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79880" y="731880"/>
            <a:ext cx="5735520" cy="5897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800600" cy="6172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76760" y="1676520"/>
            <a:ext cx="4167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gxedo for student's historical ballad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A word cloud is a stylized way of visually representing occurrences of words in a piece of text. The most frequently used words are normally highlighted in a larger, bolder fo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Modified from Webopedia Computer Dictionary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webopedia.com/TERM/t/tag_cloud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838836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, how will you word clouds in your classroom this y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6800"/>
            <a:ext cx="8510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, what’s Word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99036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aphic representation of most frequently used w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speech in a poem, in a book, in your head, in scripture, in a historical document, on a blog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wiki, on a chart in your classroom, on Twitter/Plurk, at a presentation or staff meeting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piece of writing, and mo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it is NOT limited to only frequently used words.  You can create a wordle to be what you wish the wordle to 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: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en Wagner’s Ways to Use Wordle in Your Classro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lideshare.net/JenniferW/wordle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-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Handful of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ample Word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531720"/>
            <a:ext cx="8305920" cy="5846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593640"/>
            <a:ext cx="868680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49240"/>
            <a:ext cx="7848720" cy="5210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858960"/>
            <a:ext cx="8458200" cy="509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sidential Word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6:01:39Z</dcterms:created>
  <dc:creator>Richland School District Two</dc:creator>
  <dc:description/>
  <dc:language>en-US</dc:language>
  <cp:lastModifiedBy>Richland School District Two</cp:lastModifiedBy>
  <dcterms:modified xsi:type="dcterms:W3CDTF">2010-02-18T20:03:18Z</dcterms:modified>
  <cp:revision>4</cp:revision>
  <dc:subject/>
  <dc:title>Slide 1</dc:title>
</cp:coreProperties>
</file>